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C4B-D6EC-4265-BD52-467F797C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3B6-C236-41F8-8027-302E26EA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D6A-2DB9-4DB4-9F6A-87C4B835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172-0E18-4685-89E9-F9C4D7D6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4E9-09E3-4653-87D8-DB4602DE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AE6-C20D-424A-897C-B403F47B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FCB-3CCD-42D0-86F0-EF90F4E6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F53-F630-4766-BEC1-3D78037A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2A1-755F-4DEE-BB04-FFC7FBC6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FF4-4023-4F0E-9755-2BC330E5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6E8-6156-4474-A7CB-D3C0AB21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34D-85A3-49FE-A3EE-9505E2E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678D-9EA4-44BD-A286-22D630AFC0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bootup time using Power Manag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roki Kamin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y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E1E-8CF8-4B7D-BFAF-C9C0B83D6A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peed up the image reading with DMA trans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art Un-hibernate earl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on with boot lo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17A-3F80-4BE4-A045-9F5EDE59A5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34360" y="308124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B10-DE3A-4108-AD9F-7CDCC1D819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ed to make bootup time faster using Suspend-to-disk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ing snapshot in each phase during development (e.g. for ver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AEF-3A42-4FA7-984D-298086FF79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es so far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ed swsusp function onto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: 2.6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ed suspend2 function onto ARM (suspend2-2.2-rc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: 2.6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244-F7F4-410C-89E0-96099D74CB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-rc9: Already ported onto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-rc13: ARM support was incorporated in 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-rc16: Now debugging ARM versio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very ho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d on  2.2-rc14 for today’s presentation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test version whose operation is confirme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ED8-286C-411B-93F6-1C3A40C93A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39D-777B-4DDC-995B-B0A379281F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printk tim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 make menuconfi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Kernel hacking   ---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[*] Show timing information on print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700-4F8A-44B8-AF04-56F6A36089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 Results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052640"/>
          <a:ext cx="7631280" cy="4984560"/>
        </p:xfrm>
        <a:graphic>
          <a:graphicData uri="http://schemas.openxmlformats.org/drawingml/2006/table">
            <a:tbl>
              <a:tblPr/>
              <a:tblGrid>
                <a:gridCol w="3598920"/>
                <a:gridCol w="2016000"/>
                <a:gridCol w="2016360"/>
              </a:tblGrid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la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start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9193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9198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end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2175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4119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72978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4920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data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8325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8546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cache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6208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957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total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4534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812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8444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6796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e size [MB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7968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6171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speed [MB/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8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2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237440" y="6165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F26-72A3-424F-AF18-1006933ACA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Speed of NOR FLASH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28F128J3FS-12 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 bit / 120ns Read Cyc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atashee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894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 time dd if=/dev/mtdblock3 of=/dev/null \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=1024 count=1024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0.07 sys 2.2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 4.44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BFC-D96A-4DF1-BCB7-D356EBC243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leneck analysis using performance analyzer etc.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to reduce bootup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ging t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to analyze bug of rc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00840" y="5370480"/>
            <a:ext cx="59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KST?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T?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Ta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A7F-5E2F-402F-823B-1C6336EE41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Takao Ikoma</cp:lastModifiedBy>
  <dcterms:modified xsi:type="dcterms:W3CDTF">2006-02-15T12:05:41Z</dcterms:modified>
  <cp:revision>3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